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672-ABB2-46EF-8AB2-469A8882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A5E3-BBCF-4D90-AE3F-53D92DC6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6885-9045-4281-B7AF-049643E4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29C-639A-4222-B106-68F2291B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B86-87E6-47ED-AD54-7CB5A7CF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13B-D02F-4737-BF7A-7BE30D3F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A18-2E3B-4F63-87BB-8462A86D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5BF6-C51A-41B8-8806-F5342B0A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6E4B-C952-4146-A290-40FB7271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9BD-C33A-4A91-B48F-20453279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E6D-2DBA-47EA-84A9-648AA56F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E0D-7918-4397-BFB1-6CAF8DD2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8A9E-666E-46AA-AFB3-6892A38B76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hemistry.ssu.samara.ru/chem4/link211.htm" TargetMode="External"/><Relationship Id="rId2" Type="http://schemas.openxmlformats.org/officeDocument/2006/relationships/hyperlink" Target="http://www.chemistry.ssu.samara.ru/chem4/o26.htm#Slide 1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hemistry.ssu.samara.ru/chem1/P6_4332.htm#Slide 1" TargetMode="External"/><Relationship Id="rId2" Type="http://schemas.openxmlformats.org/officeDocument/2006/relationships/hyperlink" Target="http://www.chemistry.ssu.samara.ru/chem1/P6_4331.htm#Slide 1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emistry.ssu.samara.ru/chem4/o341_1.ht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hemistry.ssu.samara.ru/chem4/o341_2.htm" TargetMode="External"/><Relationship Id="rId2" Type="http://schemas.openxmlformats.org/officeDocument/2006/relationships/hyperlink" Target="http://www.chemistry.ssu.samara.ru/chem4/o341_3.htm" TargetMode="External"/><Relationship Id="rId3" Type="http://schemas.openxmlformats.org/officeDocument/2006/relationships/hyperlink" Target="http://www.chemistry.ssu.samara.ru/chem1/butlerov.ht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hemistry.ssu.samara.ru/chem4/o254_1.htm" TargetMode="External"/><Relationship Id="rId2" Type="http://schemas.openxmlformats.org/officeDocument/2006/relationships/hyperlink" Target="http://www.chemistry.ssu.samara.ru/chem4/o343_4.htm" TargetMode="External"/><Relationship Id="rId3" Type="http://schemas.openxmlformats.org/officeDocument/2006/relationships/hyperlink" Target="http://www.chemistry.ssu.samara.ru/chem4/o254_11.ht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hemistry.ssu.samara.ru/chem4/hm26_2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учение и свойства альдегидов и кето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льдольно-кротоновая конденсация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молекуле альдегида или кетона на a-атоме углерода (соседнем с карбонильной группой) под влиянием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-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эффекта карбонила понижена электронная плотность. Это вызывает поляризацию связи 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Н и способствует отщеплению атома водорода в форме протона (H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. В частности, происходящий под действием оснований отрыв протона от a-углеродного атома, приводит к образованию соответствующего карбанио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е карбанионы могут играть роль нуклеофилов по отношению к карбонильной группе другой молекулы альдегида или кетона. Поэтому оказываются возможными реакции, в которых одна молекула карбонильного соединения (в форме карбаниона) присоединяется к C=O-группе другого карбонильного соединения. Например, уксусный альдегид на холоду при действии разбавленных растворов щелочей превращается в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льдо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 при проведении реакции в более жестких условиях (при нагревании) альдоль дегидратируется с образованием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ротонового альдеги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гкое отщепление воды от альдоля объясняется подвижностью водородного атома в a-звене, на которое действуют -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эффекты двух групп (ОН и С=О). Конденсацию альдегидов или кетонов, протекающую по первому типу, называют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льдольной конденсаци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ил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льдольным присоединение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 по второму типу -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ротоновой конденсаци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Впервые эти реакции осуществили одновременно (1872 г.) и независимо друг от друга А.П. Бородин и Ш.А. Вюрц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. Реакции восстановления альдегидов и кетонов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льдегиды при взаимодействии с водородом в присутствии Ni-катализатора образуют первичные спирты, кетоны - вторичны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лабораторных условиях для восстановления альдегидов и кетонов используется алюмогидрид лития LiAlH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. Реакции окисления альдегидов и кетон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льдегиды очень легко окисляются в соответствующие карбоновые кислоты под действием даже таких мягких окислителей, как оксид серебра и гидроксид меди (II)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еакция "серебрянного зеркала" – окисление аммиачным раствором оксида серебра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R–CH=O + 2[Ag(N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]OH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RCOOH + 2Ag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¯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+ 4N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кисление гидроксидом меди (II) в составе комплекса с винной кислотой или с аммиаком (синий цвет) с образованием красно-кирпичного осадка Cu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O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R–CH=O + 2Cu(OH)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/винная кислота ® RCOOH + Cu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O¯ + 2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R–CH=O + 2[Cu(N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](OH)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® RCOOH + Cu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O¯ + 4N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+ 2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анные реакции являются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качественным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на альдегидную группу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етоны не вступают в эти реакции. Они окисляются с трудом лишь при действии более сильных окислителей и повышенной температуре. При этом происходит разрыв С–С-связей (соседних с карбонилом) и образование смеси карбоновых кислот меньшей молекулярной массы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ение альдегидов и кетон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исление спиртов. Первичные спирты при окислении образуют альдегиды, которые затем легко окисляются до карбоновых кисло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бы предотвратить превращение альдегида в кислоту, его отгоняют в ходе реакции (т. кип. альдегида &lt; т. кип. кислоты). При окислении вторичных спиртов образуются кетоны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гидрирование первичных спиртов. Реакцию проводят, пропуская пары спирта над нагретым до 200-300°С катализатором, в качестве которого используются медь, никель, кобальт и др.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H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°,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kat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R–CН=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альдегид) + 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идратация алкинов (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реакция Кучеро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. Присоединение воды к ацетилену в присутствии солей ртути (II) приводит к образованию ацетальдегид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етоны получают при гидратации других гомологов ряда алкинов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исление алкенов (катализаторы - хлориды Pd и Cu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т способ более перспективен, чем гидратация алкинов, при которой используются токсичные ртутные катализатор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Кумольный спосо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лучения ацетона (наряду с феноло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льдегиды получают гидролизом дигалогенопроизводных углеводородов, однако только тех, у которых оба атома галогена расположены у одного из концевых атомов углерода. При действии воды на дигалогеналкил в щелочной или кислой среде реакция его гидролиза проходит стадию образования двухатомного спирта, содержащего две гидроксильных группы у одного атома углерода. Такие спирты вследствие своей неустойчивости в момент образования теряют воду и образуют альдегиды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СН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(1,1- дихлорпропан) + 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O 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СН(ОН)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](1,1-пропандиол) + 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HC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О(пропаналь)+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7.    Кетоны получают гидролизом дигалогенопроизводных углеводородов, содержащих оба атома галогена у одного из средних в цепи углеродных атом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Cl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(2,2- дихлорпропан) + 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® [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(ОН)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-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] (2,2- пропандиол) + 2HC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¯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CО–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(диметилкетон) + 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Кетоны получают, кроме того, пиролизом кальциевых солей карбоновых кислот при их нагревании.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(СН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ОО)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Ca (уксуснокислый кальций)  – </a:t>
            </a:r>
            <a:r>
              <a:rPr b="1" lang="ru-RU" sz="1700" spc="-1" strike="noStrike" baseline="30000">
                <a:solidFill>
                  <a:srgbClr val="000000"/>
                </a:solidFill>
                <a:latin typeface="Calibri"/>
              </a:rPr>
              <a:t>t°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® 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CО–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(ацетон)+ CaCO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Химические свойства альдегидов и кетон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томы углерода и кислорода в карбонильной группе находятся в состоянии sp</a:t>
            </a:r>
            <a:r>
              <a:rPr b="0" lang="ru-RU" sz="1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гибридизации. Углерод своими sp</a:t>
            </a:r>
            <a:r>
              <a:rPr b="0" lang="ru-RU" sz="1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гибридными орбиталями образует 3 s-связи (одна из них – связь С–О), которые располагаются в одной плоскости под углом около 120° друг к другу. Одна из трех sp</a:t>
            </a:r>
            <a:r>
              <a:rPr b="0" lang="ru-RU" sz="1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орбиталей кислорода участвует в s-связи С–О, две другие содержат неподеленнные электронные пары. p-Связь образована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электронами атомов углерода и кислород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вязь С=О сильно полярна. Ее дипольный момент (2,6-2,8D) значительно выше, чем у связи С–О в спиртах (0,70D). Электроны кратной связи С=О, в особенности более подвижные p-электроны, смещены к электроотрицательному атому кислорода, что приводит к появлению на нем частичного отрицательного заряда. Карбонильный углерод приобретает частичный положительный заряд. Поэтому углерод подвергается атаке </a:t>
            </a:r>
            <a:r>
              <a:rPr b="0" lang="ru-RU" sz="1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нуклеофильным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(с отрицательным зарядом) реагентами, а кислород - </a:t>
            </a:r>
            <a:r>
              <a:rPr b="0" lang="ru-RU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электрофильным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 в том числе Н</a:t>
            </a:r>
            <a:r>
              <a:rPr b="0" lang="ru-RU" sz="17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пецифика строения карбонильной группы определяет реакции альдегидов и кетон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ля карбонильных соединений характерны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реакци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различных типов:  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присоединение по карбонильной группе;  полимеризация; конденсация; восстановление и окисление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Большинство реакций альдегидов и кетонов протекает по механизму нуклеофильного присоединения по связи С=О. Реакционная способность в таких реакциях уменьшается от альдегидов к кетона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000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Реакции присоединения по карбонильной групп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оединение большинства реагентов по двойной связи С=О происходит как ионная реакция по механизму нуклеофильного присоедин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исоединение циановодородной (синильной) кислоты HCN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 реакция используется для удлинения углеродной цепи, а также для получения a-гидроксикислот R-CH(COOH)OH по реакци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-CH(CN)OH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R-CH(COOH)OH +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исоединение спиртов с образованием полуацеталей (в присутствии кислоты или основания как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катализатора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уацета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соединения, в которых атом углерода связан с гидроксильной и алкоксильной   (-OR) группами. Взаимодействие полуацеталя с еще одной молекулой спирта (в присутствии кислоты) приводит к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мещени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луацетального гидроксила на алкоксильную группу OR' и образованию ацетал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цета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соединения, в которых атом углерода связан с двумя алкоксильными (-OR) группами. Образование ацеталей из полуацеталей подобно реакции получения простых эфиров при межмолекулярной дегидратации спиртов. Реакции карбонильных соединений со спиртами играют важную роль в химии углево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Присоединение гидросульфита натрия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дает кристаллические вещества, обычно называемые гидросульфитными производными альдегидов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CНО+ HSO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Na ® 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CН(ОН)–SO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Na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(гидросульфитное производное уксусного альдегида)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помянутые производные легко гидролизуются в любых средах, приводя к исходному карбонильному соединению. Так, при нагревании с раствором соды гидросульфитного производного уксусного альдегида образуется собственно уксусный альдегид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2C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–C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)–S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Na + Na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2C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–C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О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 + 2Na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+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анное свойство используется для очистки альдегидов и выделения их из смесе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4.  </a:t>
            </a:r>
            <a:r>
              <a:rPr b="0" lang="ru-RU" sz="1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рисоединение реактива Гриньяра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 (R–MgHal) к альдегидам и кетонам с образованием спиртов.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исоединение R-MgHal к формальдегиду приводит к образованию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ервичных спиртов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.    </a:t>
            </a:r>
            <a:r>
              <a:rPr b="0" lang="ru-RU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Взаимодействие с аммиаком и его производными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ммиак и его производные NH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X реагируют с альдегидами и кетонами в две стадии. Сначала образуются продукты нуклеофильного присоединения, которые затем вследствие неустойчивости отщепляют воду. Поэтому данный процесс в целом классифицируют как реакцию присоединения-отщеплен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и взаимодействии с аммиаком образуются имины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еакция альдегидов и кетонов с аммиаком может сопровождаться циклизацией продуктов присоединения. Например, взаимодействие аммиака с формальдегидом, как показал </a:t>
            </a:r>
            <a:r>
              <a:rPr b="0" lang="ru-RU" sz="1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А.М. Бутлеров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 приводит к образованию гексаметилентетрамина, известного как медицинский препарат уротропин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Реакции полимеризации карбонильных соед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имеризация - частный случай реакций присоединения - характерна в основном для альдегидов. Например, при стоянии 40% водного раствора формальдегида (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формали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, в виде белого осадка образуется полимер формальдегида с невысокой молекулярной массой -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арафор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=O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HO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(O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O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H ( n = 7, 8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ование полимеров можно рассматривать как результат нуклеофильной атаки атомом кислорода одной молекулы альдегида карбонильного атома углерода другой молеку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имеры альдегидов довольно неустойчивы: в кислой среде они гидролизуются с образованием исходных продуктов. При взаимодействии молекул альдегидов возможно также образование циклических соединений. Например, тримеризация формальдегида приводит к образованию триоксана (триоксиметилена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иоксан используется для получения полиформальдегида (полиоксиметилена) с высокой молекулярной массой, обладающего повышенной стабильностью и механической прочность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. Реакции конденсации карбонильных соединени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нденсацией называется реакция, приводящая к усложнению углеродного скелета и возникновению новой углеродной связи, причем из двух или более относительно простых молекул образуется новая, более сложная молекула. Обычно в результате реакции конденсации выделяется молекула воды или другого вещества. Конденсация, приводящая к образованию высокомолекулярных соединений, называется реакцией поликонденсации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Конденсация с фенолам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Практическое значение имеет реакция формальдегида с фенолом (катализаторы - кислоты или основания)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альнейшее взаимодействие с другими молекулами формальдегида и фенола приводит к образованию </a:t>
            </a:r>
            <a:r>
              <a:rPr b="0" lang="ru-RU" sz="1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енолоформальдегидных смол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Конденсация формальдегида с карбамидом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(мочевиной) (NH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C=O используется для получения  </a:t>
            </a:r>
            <a:r>
              <a:rPr b="0" lang="ru-RU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карбамидных (мочевиноформальдегидных) смол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Фенолформальдегидные смолы [-C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(OH)-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-]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– продукты поликонденсации фенола C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OH с формальдегидом CH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=O. Взаимодействие фенола с формальдегидом идет по </a:t>
            </a:r>
            <a:r>
              <a:rPr b="0" lang="ru-RU" sz="1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схеме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оль реакционноспособных функциональных групп в этих соединениях играют:  в феноле – три С-Н-связи в орто- и пара-положениях (легче идет замещение в двух орто-положениях);  в формальдегиде – двойная связь С=О, способная к присоединению по атомам С и О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Это определяет возможность образования цепных макромолекул по схеме поликонденсации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5000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акция проводится в присутствии кислых (соляная, серная, щавелевая и другие кислоты) или щелочных катализаторов (аммиак, гидроксид натрия, гидроксид бария).  При избытке фенола и кислом катализаторе образуется линейный полимер 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вола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цепь которого содержит приблизительно 10 фенольных остатков, соединенных между собой метиленовыми (-С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) мостиками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вола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термопластичные полимеры, которые сами по себе не способны переходить в неплавкое и нерастворимое состояние. Но они могут превращаться в трехмерный полимер при нагревании их с дополнительной порцией формальдегида в щелочной среде. При использовании щелочных катализаторов и избытка альдегида в начальной стадии поликонденсации получаются линейные цеп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з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дополнительном нагревании эти цепи "сшиваются" между собой за счет групп -C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OH, находящихся в пара-положении фенольного кольца, с образованием трехмерного полимера 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зи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м образом, резолы являются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рмореактивным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лимерами. Фенолоформальдегидные полимеры применяются в виде прессовочных композиций с различными наполнителями, а также в производстве лаков и кле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7T08:13:19Z</dcterms:created>
  <dc:creator>Андрей</dc:creator>
  <dc:description/>
  <dc:language>en-US</dc:language>
  <cp:lastModifiedBy>Андрей</cp:lastModifiedBy>
  <dcterms:modified xsi:type="dcterms:W3CDTF">2020-08-27T08:28:37Z</dcterms:modified>
  <cp:revision>11</cp:revision>
  <dc:subject/>
  <dc:title>Получение и свойства альдегидов и кетонов</dc:title>
</cp:coreProperties>
</file>