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C11-5338-4CFF-A3EB-0F55F003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01A-777F-4D48-9E24-FDB0A778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CB4-C874-477E-AFDD-270228AD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900-D0B5-46BB-8410-959387D9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2BB-A000-41C3-AE54-763E1A40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46E-72A0-47A4-92DA-C1DFDE3E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E5A-7FC3-4C2C-BE8F-E5AC5CF0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1F7-FA96-49C1-8448-4FB50BD1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782-37FD-44E4-B651-905A3DCB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4BF-D32F-4A03-96BD-D45BFA58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F60-33AE-4B4F-B221-C8FECACC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398-CD11-4153-BA93-BDF4AF21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7488-3E7B-4B0F-BC02-F46257074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и свойства алк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алки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цетилен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важнейшим исходным продуктом в производстве многих органических веществ и материалов. Его получают в больших количествах, используя ряд промышленных метод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ролиз метан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кцию проводят электродуговым способом, пропуская метан между электродами с временем контакта 0,1-0,01 секунды. Столь малое время нагревания обусловлено тем, что ацетилен при такой температуре может разлагаться на углерод и водоро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ролиз этана или этилен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дролиз карбида кальц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интез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мологов ацетиле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меняют следующие мет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гидрогалогенирование дигалогеналканов спиртовым раствором щелочи (щелочь и спирт берутся в избытке). Атомы галогена при этом могут быть расположены как у соседних атомов углерода, так и у одного углеродного ато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 удлинение цепи (алкилирование ацетиленидов) при действии на ацетилениды алкилгалогенида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287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. Реакции присоеди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идрирова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идрирование алкинов осуществляется при нагревании с теми же металлическими катализаторами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, что и в случае алкенов, но с меньшей скоростью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º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ропин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Pd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;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•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ропен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Pd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;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ропа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алогенирова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лкины обесцвечивают бромную воду (качественная реакция на тройную связь). Реакция галогенирования алкинов протекает медленнее, чем алке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Cº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B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CHB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B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,2-дибромэтен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B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CHB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B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,1,2,2-тетрабромэта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идрогалогенирова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разующиеся продукты определяются правилом Марковник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º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HB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B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2- бромпропен -1)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HB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B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2,2- дибромпропа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4) Гидратация (реакция Кучеров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рисоединение воды осуществляется в присутствии сульфата ртути. Эту реакцию открыл и исследовал в 1881 году М.Г.Кучер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оединение воды идет по правилу Марковникова, образующийся при этом неустойчивый спирт с гидроксильной группой при двойной связи (так называемый, енол) изомеризуется в более стабильное карбонильное соединение - кето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CºCH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  –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HgSO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  [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](енол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l  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–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метилэтилкетон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ll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лучае гидратации собственно ацетилена конечным продуктом является альдеги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CºCH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  –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HgSO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  [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CH](енол)  ®  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 COH (уксусный альдеги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I. Кислотные свойства (реакции замеще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ые атомы ацетилена способны замещаться металлами с образованием ацетиленидов. Так, при действии на ацетилен металлического натрия или амида натрия образуется ацетиленид натр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CºCH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NaNH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 HCºCNa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ениды серебра и меди получают взаимодействием с аммиачными растворами соответственно оксида серебра и хлорида ме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Cº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[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 ® AgCºCAg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ениды серебра, меди обладают исключительной взрывчатостью. Они легко разлагаются при действии соляной кисл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CºCAg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Cl ® HCº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­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Cl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ым свойством ацетиленидов пользуются при выделении ацетиленовых углеводородов из смесей с другими газ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кисление алки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ен и его гомологи окисляются перманганатом калия с расщеплением тройной связи и образованием карбоновых кислот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кины обесцвечивают раствор 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что используется для их качественного определ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7:39:33Z</dcterms:created>
  <dc:creator>Андрей</dc:creator>
  <dc:description/>
  <dc:language>en-US</dc:language>
  <cp:lastModifiedBy>Андрей</cp:lastModifiedBy>
  <dcterms:modified xsi:type="dcterms:W3CDTF">2020-08-27T07:49:13Z</dcterms:modified>
  <cp:revision>6</cp:revision>
  <dc:subject/>
  <dc:title>Получение и свойства алкинов</dc:title>
</cp:coreProperties>
</file>