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EF4-8099-4717-B19A-99E0AFA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DA1-1066-40FD-8A54-470AB0F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95E-4AFA-4898-9749-C9C4D4C1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405-8375-44A3-BE46-163A98DC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BCF-7488-4305-A2F0-8A9A9675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245-F1EE-441A-B956-523D1397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B07-1110-4F2A-BC3E-BD38D5C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9C9-C4B1-40CF-A0F1-4EED793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41B-3517-479E-B8D8-7DA500FC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11B-F4D4-4646-8E53-EA53B18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D62-952E-40D1-ABED-133249A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A57-E37D-4C81-9416-D16C99B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1D37-7815-46D4-9A06-FE23B9849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u4413.htm#Slide 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лучение и свойства спиртов и фено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спиртов и фено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Щелочной гидролиз галогеноуглеводород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Br + NaOH (водн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+ NaB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 + 2 NaOH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HO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2NaCl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l + NaOH (p, 340°С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NaC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Гидратация алкен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(кат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воды к несимметричным алкенам идет п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авилу Марков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бразованием вторичных и третичных спирт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(OH)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–O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Гликоли получают окислением алкенов щелочным раствором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Кумольный способ получения фенола (СССР, Сергеев П.Г., Удрис Р.Ю., Кружалов Б.Д., 1949 г.). Преимущества метода: безотходная технология (выход полезных продуктов &gt; 99%) и экономичность. В настоящее время кумольный способ используется как основной в мировом производстве фено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ромышленности:     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танол синтезируют из синтез-газа на катализаторе (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ZnO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 при 25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и давлении 5-10 МПа: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О + 2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С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Н.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нее метанол получали сухой перегонкой древесины без доступа воздух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анол получают:  a)     гидратацией этилена (Н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28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8 МПа)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b)     брожением крахмала (или целлюлозы):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крахмал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глюкоза)––</a:t>
            </a:r>
            <a:r>
              <a:rPr b="1" lang="ru-RU" sz="1900" spc="-1" strike="noStrike" baseline="30000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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Н+2СО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­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источник крахмала – зерно, картофель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 гидроксисо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ства спиртов и фенолов определяются строением гидроксильной группы, характером ее химических связей, строением углеводородных радикалов и их взаимным влиянием. Связи О–Н и С–О – полярные ковалентные. Это следует из различий в электроотрицательности кислорода (3,5), водорода (2,1) и углерода (2,4). Электронная плотность обеих связей смещена к более электроотрицательному атому кислоро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польный момент связи С–О составляет 0,70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связи О–Н – 1,51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азрыв таких связей происходит преимущественн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теролитичес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 ионному механизму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 связи О–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 Реакции замещения атома водорода на металл (кислотные свойст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атомные 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агируют с активными металлами (Na, K, Mg, Al и др), образуя соли - алкоголяты (алкоксиды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R–OH + 2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R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+ 2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оголяты под действием воды полностью гидролизуются с выделением спирта и гидроксида метал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К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К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рты – более слабые кислоты, чем вода, т.к. алкильный радикал, проявляя +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, повышает электронную плотность на атоме кислорода и уменьшает полярность связи О–Н. Поэтому при взаимодействии спиртов со щелочами алкоголяты практически не образуютс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авновесие этой реакции сдвинуто влево, т.к. соли спиртов в воде гидролизуютс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того, спирты способны вытеснять углеводороды, которые можно рассматривать как еще более слабые кислоты, из их солей (например, из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тивов Гринья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RMgH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–OH + R'MgB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R'H + Mg(OR)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тность одноатомных спиртов убывает в ряд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&gt; первичный &gt; вторичный &gt; третич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оатомные 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Н-группами у соседних атомов углерода (этиленгликоль, глицерин и т.п.) вследствие взаимного влияния атомов (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 ОН-групп) являются более сильными кислотами, чем одноатомные спирты. Они образуют соли не только в реакциях с активными металлами, но и под действием их гидроксид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+ 2NaO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NaO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Na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спирты, в отличие от одноатомных, взаимодействуют с раствором гидроксида меди (II) в присутствии щелочи, образуя комплексные соединения, окрашивающие раствор в ярко-синий цвет (качественная реакц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ются более сильными кислотами, чем спирты и вода, т.к. за счет участия неподеленной электронной пары кислорода в сопряжении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ной системой бензольного кольца полярность связи О–Н увеличивается. Фенолы реагируют с гидроксидами щелочных и щелочноземельных металлов, образуя соли – фенолят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NaO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Na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наружения фенолов используется качественная реакция с хлоридом железа (III). Одноатомные фенолы дают устойчивое сине-фиолетовое окрашивание, что связано с образованием комплексных соединений желе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Fe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«(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Fe+ 3 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 реакции замещения атома водорода на остаток кислоты (образование сложных эфиров - этерификац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тупают в реакции с минеральными и органическими кислотами, образуя сложные эфиры. Реакционная способность одноатомных спиртов в этих реакциях убывает от первичных к третичным. Реакция этерификации обратима (обратный процесс – гидролиз сложных эфиров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троглицерин – сильное взрывчатое вещество (основа динамита): при его взрыве выделяется большое количество газов и тепл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CH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12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 + 6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 + 10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  + Q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образуют сложные эфиры в реакциях с кислотами. Для этого используются более реакционноспособные производные кислот (ангидриды, хлорангидриды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ители –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катализатор. Легкость окисления спиртов уменьшается в ряд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ичны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торичны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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тич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ичные спирты при окислении образуют альдегиды, которые затем легко окисляются до карбоновых кисло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кислении вторичных спиртов образуются кето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чные спирты более устойчивы к действию окислителей. Они окисляются только в жестких условиях (кислая среда, повышенная температура), что приводит к разрушению углеродного скелета молекулы и образованию смеси продуктов (карбоновых кислот и кетонов с меньшей молекулярной массой). Процесс идет через стадию дегидратации спирта с последующим деструктивным (жестким) окислением алкена. Наприме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ое окисление гидроксисоединений до 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роисходит при их горении, например: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3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 2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сгорании спиртов выделяется большое количество теп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1370 кД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 связи С–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онная способность спиртов в реакциях по связи С–О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чные &gt; вторичные &gt; первичные &gt;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акции этого типа не характерны, поскольку атом кислорода прочно связан с атомом углерода бензольного кольца за счет участия своей неподеленной электронной пары в системе сопряж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1) Реакции замещения ОН-групп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мещение гидроксила ОН на галоген происходит в реакции спиртов с галогеноводородами в присутствии катализатора – сильной минеральной кислоты (например, конц. 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. При этом спирты проявляют свойства слабых оснований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ая реакция является одним из способов получения галогеноуглеводород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2) Реакции дегидратации спи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щепление воды от молекул спирта (дегидратация спиртов) в зависимости от условий происходит как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нутримолекулярна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реакц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Внутримолекулярная дегидратация спиртов с образованием алкенов идет в присутствии концентрированной серной кислоты при повышенной температур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тех случаях, когда возможны 2 направления реакции, например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гидратация идет преимущественно в направлении I, т.е. по правилу Зайцева – с образованием более замещенного алкена (водород отщепляется от менее гидрогенизированного атома углерода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жмолекулярная дегидратация спиртов с образованием простых эфиров происходит при более низкой температуре, чем внутримолекулярная реакци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57:28Z</dcterms:created>
  <dc:creator>Андрей</dc:creator>
  <dc:description/>
  <dc:language>en-US</dc:language>
  <cp:lastModifiedBy>Андрей</cp:lastModifiedBy>
  <dcterms:modified xsi:type="dcterms:W3CDTF">2020-08-27T08:12:20Z</dcterms:modified>
  <cp:revision>8</cp:revision>
  <dc:subject/>
  <dc:title>Получение и свойства спиртов и фенолов </dc:title>
</cp:coreProperties>
</file>