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A50-647A-44F5-8C1C-370A4495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76A-2B47-47E2-92E8-BB2B1295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512-E22B-42C9-B491-6D8ECDF6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881-7B0A-4895-AD61-7793F3C5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FF4-F03D-4C46-9184-13E02FFA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0A4-9B5B-4D0E-83F3-9F6EF932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7D3-8446-44B7-A89C-D847C508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B37-A1A3-422C-8772-DE52DE42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B7B-312C-4A35-8AE2-567D6CFF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894-CCF7-480D-9CDE-E639464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066-B671-4641-99C8-F93BE102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80E-4919-4D54-ADB1-CC1B736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4EDA-0240-407A-8BDA-B0C01A201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лк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    Основным промышленным источником получения первых четырех членов ряда алкенов (этилена, пропилена, бутиленов и пентиленов) являются газы крекинга и пиролиза нефтепродуктов, а также газы коксования угля (этилен, пропилен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зы крекинга и пиролиза нефтепродуктов содержат от 15 до 30% олефинов. Так, крекинг бутана при 600°С приводит к смеси водорода, метана, этана и олефинов – этилена, пропилена, псевдобутилена (бутена -2) с соотношением олефинов ≈ 3,5 : 5 : 1,5  соответствен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    Все более значительные количества алкенов получают дегидрогенизацией алканов при повышенной температуре с катализато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30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C,Cr2O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CH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те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)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=CH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те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)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 В лабораторной практике наиболее распространенным способом получения алкенов является дегидратация (отщепление воды) спиртов при нагревании с водоотнимающими средствами (концентрированная серная или фосфорная кислоты) или при пропускании паров спирта над катализатором (окись алюми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H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но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,Al2O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ядок дегидратации вторичных и третичных спиртов определяется правилом А.М.Зайцева: при образовании воды атом водорода отщепляется от наименее гидрогенизированного соседнего атома углерода, т.е. с наименьшим количеством водородных атомо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–C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l      l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–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бутанол-2) ® 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CH=CH–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бутен-2)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  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алкены получают реакцией дегидрогалогенирования (отщепление галогеноводорода) из галогенопроизводных при действии спиртового раствора щелочи. Направление данной реакции также соответствует правилу Зайце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-бромбутан)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спирт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®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B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     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     Реакция дегалогенирования (отщепление двух атомов галогена от соседних атомов углерода) при нагревании дигалогенидов с активными металлами также приводит к алке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,2-дибромпропан)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опен)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g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  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      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лкенов определяются строением и свойствами двойной связи С=С, которая значительно активнее других связей в молекулах этих соединений. Алкены химически более активны, чем алканы.  Характеристики углерод-углеродных связей: 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энергия двойной связи С=С (s+p)) = 620 кДж/моль; Е (энергия s-связи) С-С = 348 кДж/мо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рисоеди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    Галогенир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Алкены при обычных условиях присоединяют галогены, приводя к дигалогенопроизводным алканов, содержащим атомы галогена у соседних углеродных ато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Br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­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,2-дибромэта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еденная реакция - обесцвечивание алкеном бромной воды является качественной реакцией на двойную связ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идр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лкены легко присоединяют водород в присутствии катализаторов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образуя предельные углеводо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 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N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 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па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идрогалоген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тилен и его гомологи присоединяют галогеноводороды, приводя к галогенопроизводным углеводор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Br  ®  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бромистый эти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оединение галогеноводородов к пропилену и другим алкенам происходит в соответствии.  Реакция присоединения галогеноводородов к несимметричным алкенам идет по правилу Марковникова, а именно: атом водорода присоединяется к наиболее гидрогенизированному атому углерода при двойной связи, то есть к атому углерода с наибольшим числом водородных ато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CH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Cl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−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-хлорпропан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  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Гидратация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присутствии минеральных кислот олефины присоединяют воду, образуя спир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ульфатация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сульфирование)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заимодействие алкенов с серной кислотой приводит к кислым эфирам серной кисл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CH−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O−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OH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−O−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OH 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пропилсерная кислот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видно, направление реакций гидратации и сульфирования также определяется правилом Марковни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окис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кены легко окисляются. В зависимости от условий проведения реакции образуются различные продук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)    При сжигании на воздухе олефины дают углекислый газ и воду (полное окисл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кислении алкенов разбавленным раствором перманганата калия  образуются двухатомные спирты – гликоли (реакция Е.Е.Вагнера). Реакция протекает на хол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=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KMn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4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 ®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−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этиленгликоль)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O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 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    OH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зультате реакции наблюдается обесцвечивание раствора перманганата калия. Реакция Вагнера служит качественной пробой на двойную связ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олимер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й из наиболее важных в практическом отношении реакций непредельных соединений (или олефинов) является полимеризация. Реакцией полимеризации называется процесс образования высокомолекулярного соединения (полимера) путем соединения друг с другом молекул исходного низкомолекулярного соединения (мономера -М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зывается степенью полимеризации. При полимеризации двойные связи в молекулах исходного непредельного соединения "раскрываются", и за счет образующихся свободных валентностей эти молекулы соединяются друг с другом. Полимеризация олефинов вызывается нагреванием, давлением, облучением, действием свободных радикалов или катализатор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6:37:29Z</dcterms:created>
  <dc:creator>Андрей</dc:creator>
  <dc:description/>
  <dc:language>en-US</dc:language>
  <cp:lastModifiedBy>Андрей</cp:lastModifiedBy>
  <dcterms:modified xsi:type="dcterms:W3CDTF">2020-08-27T07:31:41Z</dcterms:modified>
  <cp:revision>10</cp:revision>
  <dc:subject/>
  <dc:title>Получение и свойства алкенов</dc:title>
</cp:coreProperties>
</file>