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2DE-ED0D-40AE-9E08-0ED4A21A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2C5-2601-4D9A-AF5E-F4A74FF0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CF1-EC02-4C00-AEC1-D60311C0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9D0-9C41-4A39-A646-0F51B695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5A8-D807-4519-A022-64151022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E74-A690-49FC-8486-BA509C6D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EE3-D723-41E3-991D-673E63ED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A5E-7863-49BA-B883-9041D5E4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1A5-4E98-4857-9A02-F69C8728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461-700E-4429-889C-A4AEA86A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D43-8A11-46F2-8B5A-61BC611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03F-F1C3-4BBB-A8BB-C74C47F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E932-A6ED-46A7-A2C3-CB2D0D636B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2/lebedev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и свойства алкадие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олучение алкадиен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щие способы получения диенов аналогичны способам получения алкено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. Каталитическое двухстадийное дегидрирование алканов (через стадию образования алкенов). Этим путем получают в промышленности дивинил из бутана, содержащегося в газах нефтепереработки и в попутных газах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талитическим дегидрированием изопентана (2-метилбутана) получают изопрен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. Синтез дивинила по Лебедеву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. Дегидратация гликолей (двухатомных спиртов, или алкандиолов)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ействие спиртового раствора щелочи на дигалогеналканы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По химическим свойствам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диеновые углеводороды подобны алкенам. Они легко окисляются и вступают в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реакции присоединени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Однако сопряженные диены отличаются некоторыми особенностями, которые обусловлены делокализацией (рассредоточением) p -электронов. p-Электроны двойных связей образуют единое p -электронное облако (сопряженную систему) и делокализованы между всеми атомами углерод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разование единого p -электронного облака, охватывающего 4 атома углерода: приводит к возможности присоединения реагента по концам этой системы, т.е. к атомам С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и С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Поэтому дивинил и изопрен наряду с присоединением 1 моля реагента по одной из двойных связей (1,2- или 3,4-) вступают в реакции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1,4-присоедине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рисоединения к сопряженным дие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). Гидриро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ри гидрировании бутадиена-1,3 получается бутен-2, т.е. происходит 1,4-присоединение. При этом двойные связи разрываются, к крайним атомам углерода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соединяются атомы водорода, а свободные валентности образуют двойную связь между атомами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исутствии катализатора Ni получается продукт полного гидрир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). Галогенирование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4-присоедин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2-присоедин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избытке брома присоединяется еще одна его молекула по месту оставшейся двойной связи с образованием 1,2,3,4-тетрабромбута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реакциям присоединения относятся реакци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имериза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характерные для диенов. Этот процесс имеет важное значение в производстве синтетических каучу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3. Диеновый синтез (реакция Дильса-Альдера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рганическом синтезе широко применяется реакция присоединения к сопряженным диенам соединений, содержащих кратные связи (так называемых диенофилов). Реакция идет как 1,4-присоединение и приводит к образованию циклических продукт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меризация сопряженных диенов. Каучу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винил и изопрен вступают в полимеризацию и сополимеризацию (т.е. совместную полимеризацию) с другими непредельными соединениями, образуя каучуки. Каучуки – это эластичные высокомолекулярные материалы (эластомеры), из которых методом вулканизации (нагреванием с серой) получают резину.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туральный каучу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риродный высокомолекулярный непредельный углеводород состава (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где n составляет 1000-3000 единиц. Установлено, что этот полимер состоит из повторяющихся звеньев 1,4-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ци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изопрена и имеет стереорегулярное стро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иродных условиях натуральный каучук образуется не путем полимеризации изопрена, а другим, более сложным способом. Полимеризация 1,3-диенов может протекать либо по типу 1,4-присоединения, либо по смешанному типу 1,2- и 1,4-присоединения. Направление присоединения зависит от условий проведения реакции. Первый синтетический каучук, полученный по методу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.В. Лебеде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 полимеризации дивинила под действием металлического натрия, представлял собой полимер нерегулярного строения со смешанным типом звеньев 1,2- и 1,4-присоедин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7:29:39Z</dcterms:created>
  <dc:creator>Андрей</dc:creator>
  <dc:description/>
  <dc:language>en-US</dc:language>
  <cp:lastModifiedBy>Андрей</cp:lastModifiedBy>
  <dcterms:modified xsi:type="dcterms:W3CDTF">2020-08-27T07:44:10Z</dcterms:modified>
  <cp:revision>6</cp:revision>
  <dc:subject/>
  <dc:title>Получение и свойства алкадиенов</dc:title>
</cp:coreProperties>
</file>