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7A0-9548-449C-B94C-2F24D481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8FE-3A0E-43E0-AA43-7ADB6751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873-AA2E-44F1-B622-B88BF130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6F6-774B-4F82-BD50-16B6FF3C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778-EE36-41E5-90A4-B9A3355F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5A1-2B58-4271-AF31-62F3D871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85F-CEAE-4B38-8CE9-68EDF92B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211-8388-4606-80D7-8DDF1E00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B9E-B2A4-490C-B510-CBDC9825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388-B449-4A99-9369-99567C9B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5B7-3064-49CC-BBE6-5FD16F5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E6B-B558-4AB4-AB44-3F5254F2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3D6-31B8-4FBB-9891-300A787B4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2/zelensky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2/u731_2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р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ароматических углеводор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ыми природными источниками аренов являются каменный уголь и нефть. При коксовании каменного угля образуется каменноугольная смола, из которой выделяют бензол, толуол, ксилолы, нафталин и многие другие органические соедин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роматизация неф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дегидроциклизация (дегидрирование и циклизация) алканов в присутствии катализато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дегидрирование циклоалкан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килирование бензо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алогеналканами или алкенами в присутствии безводного хлорида алюми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дегидрировании этилбензола образуется производное бензола с непредельной боковой цепью – винилбензол (стирол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CН=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сходное вещество для получения ценного полимер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истиро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римеризация алки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д активированным углем (реакци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елинск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и получения аренов указывают на взаимосвязь между различными группами углеводородов и на возможность их превращения друг в д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химическим свойства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ены отличаются от предельных и непредельных углеводородов. Это объясняется особенностями строения бензольного кольца. Делокализация шест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лектронов в циклической системе понижает энергию молекулы, что обусловливает повышенную устойчивость (ароматичность) бензола и его гомологов. Поэтому для аренов наиболее характерны реакции, идущие с сохранением ароматической системы, а именно,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акции замещ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томов водорода, связанных с циклом. Другие реакции (присоединение, окисление), в которых участвуют делокализованные углерод-углеродные связи бензольного кольца и нарушается его ароматичность, идут с труд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и заме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акции замещения в бензольном коль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)  Галогенировани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щение атома водорода в бензольном кольце на галоген происходитв присутствии катализаторов AlC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AlB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FeC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т.п.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ислот Льюис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) Нитрование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нзол реагирует с нитрующей смесью (смесью концентрированныхазотной и серной кислот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3)  Алкилировани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щение атома водорода в бензольном кольце на алкильную группу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килир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происходит под действием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килгалогенид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реакция Фриделя-Крафтса) ил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ке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присутствии катализаторов AlC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AlB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FeC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кислот Льюис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мещение в алкилбензолах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мологи бензола (алкилбензолы) более активно вступают в реакции замещения по сравнению с бензолом. Например, при нитровании толуол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ожет происходить замещение не одного, а трех атомов водорода с образованием 2,4,6-тринитротолуо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ярко проявля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ное влияние атомов в молекул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реакционную способность вещества. С одной стороны, метильная групп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за счет +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а – индуктивный эффект – нагнетание электронной плотности) повышает электронную плотность в бензольном кольце в положениях 2, 4 и 6 и облегчает замещение именно в этих положени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ругой стороны, под влиянием бензольного кольца метильная групп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толуоле становится более активной в реакциях окисления и радикального замещения по сравнению с метан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Толуол, в отличие от метана, окисляется в мягких условиях (обесцвечивает подкисленный раствор 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 нагревани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акции замещения в боковой цепи алкилбензолов.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гче, чем в алканах, протекают реакции радикального замещения 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оковой цеп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лкилбензол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ъясняется тем, что на лимитирующей стадии легко (при невысокой энергии активации) образуются устойчивые промежуточные радикалы. Например, в случа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олуо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разуется радикал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нзи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•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н более стабилен, чем алкильные свободные радикалы (•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•С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), т.к. его неспаренный электрон делокализован за счет взаимодействия с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лектронной системой бензольного кольц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7:49:35Z</dcterms:created>
  <dc:creator>Андрей</dc:creator>
  <dc:description/>
  <dc:language>en-US</dc:language>
  <cp:lastModifiedBy>Андрей</cp:lastModifiedBy>
  <dcterms:modified xsi:type="dcterms:W3CDTF">2020-08-27T07:57:19Z</dcterms:modified>
  <cp:revision>5</cp:revision>
  <dc:subject/>
  <dc:title>Получение и свойства аренов</dc:title>
</cp:coreProperties>
</file>