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0FE-7360-4593-9B6E-C753D6C3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C11-7826-488F-B65D-9F53D78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0DF-88DE-4657-B012-F12D7771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520-F0F2-4AAE-B421-2D23B0C3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6C9-2EDC-4819-804C-809420EC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129-88F9-4186-8748-407C85BD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F8F-189C-407C-9939-FC942390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592-3A8A-4503-A4B3-50814C11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4CD-43FF-48CF-92A1-CA3EB910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698-5440-4B57-B54E-84C0AA6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795-88E7-4E97-A654-1FCC6A3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7A3-8222-480E-8614-957A1E1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1F8-9DEE-4689-9691-30F4B54B3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карбоновых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карбоновых 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первичных спиртов и альдегидов (кислородом на катализаторе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      Промышленный синтез муравьиной кисл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талитическое окисление ме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2H–COOH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)     нагреванием оксида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идроксидом нат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 + NaOH  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;200°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H–COONa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H–CO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      Промышленный синтез уксусной кисл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талитическое окисление бу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5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4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)     нагреванием смеси оксида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и метанола на катализаторе под давл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      Ароматические кислоты синтезируют окислением гомологов бензол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 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 6KM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9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5 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6Mn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14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     Гидролиз функциональных производных (сложных эфиров, ангидридов, галогенангидридов, амид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ксильная группа содержит две функциональные группы - карбонил &gt;С=О и гидроксил -OH, взаимно влияющие друг на дру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тные свойства карбоновых кислот обусловлены смещением электронной плотности к карбонильному кислороду и вызванной этим дополнительной (по сравнению со спиртами) поляризации связи О–Н.. В водном растворе карбоновые кислоты диссоциируют на ион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карбоновых кислот в водном растворе невел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овые кислоты обладают свойствами, характерными для минеральных кислот. Они реагируют с активными металлами, основными оксидами, основаниями, солями слабых кисло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Mg ® 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СaO ® 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–COOH + NaOH ® H–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® 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H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®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овые кислоты слабее многих сильных минеральных кислот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т.д.) и поэтому вытесняются ими из солей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конц.)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H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функциональных производных карбоновых кисл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Образование сложных эфиров R'–COOR" (реакция этерификаци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я образования сложного эфира из кислоты и спирта называется реакцией этерифик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ethe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фи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ри воздействии водоотнимающих реагентов в результате межмолекулярной     дегидратации образуются ангидри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 –OH + H–O– 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(P2O5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 –O– 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при обработке карбоновых кислот пятихлористым фосфором получают 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рангидри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 Галогенирование. При действии галогенов (в присутствии красного фосфора) образуютс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алогензамещённые кислоты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8:28:53Z</dcterms:created>
  <dc:creator>Андрей</dc:creator>
  <dc:description/>
  <dc:language>en-US</dc:language>
  <cp:lastModifiedBy>Андрей</cp:lastModifiedBy>
  <dcterms:modified xsi:type="dcterms:W3CDTF">2020-08-27T08:33:39Z</dcterms:modified>
  <cp:revision>4</cp:revision>
  <dc:subject/>
  <dc:title>Свойства карбоновых кислот</dc:title>
</cp:coreProperties>
</file>